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gif" ContentType="image/gif"/>
  <Override PartName="/ppt/media/image17.wmf" ContentType="image/x-wmf"/>
  <Override PartName="/ppt/media/camera.wav" ContentType="audio/x-wav"/>
  <Override PartName="/ppt/media/breeze.wav" ContentType="audio/x-wav"/>
  <Override PartName="/ppt/media/applause.wav" ContentType="audio/x-wav"/>
  <Override PartName="/ppt/media/image5.wmf" ContentType="image/x-wmf"/>
  <Override PartName="/ppt/media/laser.wav" ContentType="audio/x-wav"/>
  <Override PartName="/ppt/media/image9.gif" ContentType="image/gif"/>
  <Override PartName="/ppt/media/image22.wmf" ContentType="image/x-wmf"/>
  <Override PartName="/ppt/media/image1.wmf" ContentType="image/x-wmf"/>
  <Override PartName="/ppt/media/bomb.wav" ContentType="audio/x-wav"/>
  <Override PartName="/ppt/media/image26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23.wmf" ContentType="image/x-wmf"/>
  <Override PartName="/ppt/media/image25.wmf" ContentType="image/x-wmf"/>
  <Override PartName="/ppt/media/image2.wmf" ContentType="image/x-wmf"/>
  <Override PartName="/ppt/media/image8.gif" ContentType="image/gif"/>
  <Override PartName="/ppt/media/image4.wmf" ContentType="image/x-wmf"/>
  <Override PartName="/ppt/media/image24.gif" ContentType="image/gif"/>
  <Override PartName="/ppt/media/image20.wmf" ContentType="image/x-wmf"/>
  <Override PartName="/ppt/media/image3.wmf" ContentType="image/x-wmf"/>
  <Override PartName="/ppt/media/image7.gif" ContentType="image/gif"/>
  <Override PartName="/ppt/media/image10.gif" ContentType="image/gif"/>
  <Override PartName="/ppt/media/image18.wmf" ContentType="image/x-wmf"/>
  <Override PartName="/ppt/media/hammer.wav" ContentType="audio/x-wav"/>
  <Override PartName="/ppt/media/image11.png" ContentType="image/png"/>
  <Override PartName="/ppt/media/image12.png" ContentType="image/png"/>
  <Override PartName="/ppt/media/image13.wmf" ContentType="image/x-wmf"/>
  <Override PartName="/ppt/media/image15.gif" ContentType="image/gif"/>
  <Override PartName="/ppt/media/voltage.wav" ContentType="audio/x-wav"/>
  <Override PartName="/ppt/media/image1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D2F-CFDA-4911-9F23-82C006D2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D73-0C63-4F21-A805-34EBC05F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984-C9C4-4AD6-A042-63C9A9CA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A3F-4AD6-4BCF-8168-F34FE069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C4E-1FAA-4DE3-A14A-6FE7957E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B8D-7C6D-4736-9418-2AB002FC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44A-B137-4373-8C3F-60C6F15C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930-0535-412C-B497-41B6EDA2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DFC-4762-4AEA-BAED-3869D0A3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9FB-B256-4C8F-99C5-E74D4217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9F5-54D9-4AF5-924A-8CB95DE1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DB5-163D-4F68-951C-D898D41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D148-DC07-4C24-95C6-5EEF6B7BD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audio" Target="file:///tmp/home/.config/libreoffice/4/user/gallery/hammer.wav" TargetMode="External"/><Relationship Id="rId5" Type="http://schemas.microsoft.com/office/2007/relationships/media" Target="file:///tmp/home/.config/libreoffice/4/user/gallery/hammer.wav" TargetMode="External"/><Relationship Id="rId6" Type="http://schemas.openxmlformats.org/officeDocument/2006/relationships/image" Target="../media/image12.png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NK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building in a camp where a group of people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: bunk 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: b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 Break: bunk-ho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ho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153504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648320" y="4114800"/>
          <a:ext cx="38098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4114800"/>
                    <a:ext cx="38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10080" y="2209680"/>
            <a:ext cx="3170520" cy="2149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5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993366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ag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sweet of pleasant o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: ar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: o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frag-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f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32560" y="2092320"/>
            <a:ext cx="1841400" cy="1758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08560" y="4114800"/>
            <a:ext cx="24876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French word that means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bon-j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182088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72200" y="3124080"/>
            <a:ext cx="1816200" cy="822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75284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 Cru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French word for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: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: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by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1819080" cy="1479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4120" y="4800600"/>
            <a:ext cx="181908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ords (of woo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Definition: A measure for a stack of cut w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ynonyms: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ntonyms: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yllable Brea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Base Word: 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21400" y="1981080"/>
            <a:ext cx="186372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65600" y="4205160"/>
            <a:ext cx="1973520" cy="1798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f great size, or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little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im-men-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19814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ds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stretch of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land- 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berj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A person who chops down trees and mauls the logs to a saw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: lo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: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 Break: lumber-j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l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2514600" cy="194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29200" y="227664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9920" y="1676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7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9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09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117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751746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owsh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: A rounded wooden frame with leather strip stretched a crosstie attached to the sh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onym: s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onyms: sh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llable: snow-sh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 Word: snow and sh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lection: 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1714680" cy="181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238880" y="2133720"/>
            <a:ext cx="155916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867280" y="4572000"/>
            <a:ext cx="1657440" cy="1400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4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rees that can be used as w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wood, logs, and l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tim-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ti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239076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50000">
              <a:srgbClr val="5e1746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ods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person who works or lives in the fo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: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: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woods-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94360" y="990720"/>
            <a:ext cx="3149640" cy="3433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w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look ann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gl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happy and 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ow- 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 or 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193680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9-02-02T17:26:46Z</dcterms:modified>
  <cp:revision>17</cp:revision>
  <dc:subject/>
  <dc:title>PowerPoint Presentation</dc:title>
</cp:coreProperties>
</file>